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80628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80628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380628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80628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380628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380628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80628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80628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0628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80628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80628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80628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80628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80628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80628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80628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380628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80628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73152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3a9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3800" y="152280"/>
            <a:ext cx="1371600" cy="8780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9080">
            <a:solidFill>
              <a:srgbClr val="353a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37480" y="6520320"/>
            <a:ext cx="20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ACGrid School, Han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1960" y="3124080"/>
            <a:ext cx="6242040" cy="3426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2819160" cy="1803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28440">
            <a:solidFill>
              <a:srgbClr val="353a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3a9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658332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EGEE is a project funded by the European Union under contract IST-2003-5088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2286000"/>
            <a:ext cx="3276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9000" y="1523520"/>
            <a:ext cx="548640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Times New Roman"/>
              </a:rPr>
              <a:t>Application development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Times New Roman"/>
              </a:rPr>
              <a:t>Hands-on</a:t>
            </a: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1" lang="en-US" sz="18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1880" y="20574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ww.eu-egee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66680" y="3124080"/>
            <a:ext cx="2022480" cy="2212920"/>
            <a:chOff x="1066680" y="3124080"/>
            <a:chExt cx="2022480" cy="22129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1066680" y="3124080"/>
              <a:ext cx="202248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133280" y="5172120"/>
              <a:ext cx="1752840" cy="16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3a90"/>
                </a:solidFill>
                <a:latin typeface="Arial"/>
              </a:rPr>
              <a:t>BLAST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3809880"/>
            <a:ext cx="1816200" cy="1951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LAST (basic local alignment and search tool) is a biological program that compares the alignment between a sequence and a database, with a set of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output of the blast is a flat file of the different sequences that m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LA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mat a database: formatdb -i &lt;file&gt; -p F -o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unch the blast: blastall -i &lt;sequence_file&gt; -d &lt;database_file&gt; -o res.out -b 1 -v 1 -e 0.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53a90"/>
                </a:solidFill>
                <a:latin typeface="Arial"/>
              </a:rPr>
              <a:t>To do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goal: see how you can deploy an application, depending on the available grid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You have to think about how to launch a blast on the gr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You need: a sequence file, a database, a soft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You are given 3 diffferent scenari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- use only the UI and the CE to deploy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2- use the 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3- use high level services (AMG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For each one, present a solution, and the advantages and misadvanta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You don't need to implement anything for the moment, just present a workflow describing how your application will r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3a90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523880"/>
            <a:ext cx="6324480" cy="33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901"/>
              </a:spcBef>
              <a:spcAft>
                <a:spcPts val="1125"/>
              </a:spcAft>
              <a:buClr>
                <a:srgbClr val="ffcc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two text files on the Gr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901"/>
              </a:spcBef>
              <a:spcAft>
                <a:spcPts val="1125"/>
              </a:spcAft>
              <a:buClr>
                <a:srgbClr val="ffcc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nd submit a job that retrieves these files, read them and concatenate them back to a new file, store this result file back to the grid and replicate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901"/>
              </a:spcBef>
              <a:spcAft>
                <a:spcPts val="1125"/>
              </a:spcAft>
              <a:buClr>
                <a:srgbClr val="ffcc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job is finished, retrieve the file from the SE on the U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901"/>
              </a:spcBef>
              <a:spcAft>
                <a:spcPts val="1125"/>
              </a:spcAft>
              <a:buClr>
                <a:srgbClr val="ffcc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nd unregister all the files and replicas cre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90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2T13:09:39Z</dcterms:created>
  <dc:creator>Fab</dc:creator>
  <dc:description/>
  <dc:language>en-US</dc:language>
  <cp:lastModifiedBy>Jean Salzemann</cp:lastModifiedBy>
  <cp:lastPrinted>2007-11-08T01:49:24Z</cp:lastPrinted>
  <dcterms:modified xsi:type="dcterms:W3CDTF">2007-11-08T04:06:13Z</dcterms:modified>
  <cp:revision>273</cp:revision>
  <dc:subject>Presentation of EGEE at Bio event in Brussels</dc:subject>
  <dc:title>The EGEE proj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17395533</vt:r8>
  </property>
  <property fmtid="{D5CDD505-2E9C-101B-9397-08002B2CF9AE}" pid="3" name="_AuthorEmailDisplayName">
    <vt:lpwstr>Fabrizio Gagliardi</vt:lpwstr>
  </property>
  <property fmtid="{D5CDD505-2E9C-101B-9397-08002B2CF9AE}" pid="4" name="_EmailSubject">
    <vt:lpwstr>[Fwd: Updated version of agenda and abstract booklet for meeting on Mar	ch 18th - 19th]</vt:lpwstr>
  </property>
  <property fmtid="{D5CDD505-2E9C-101B-9397-08002B2CF9AE}" pid="5" name="_ReviewingToolsShownOnce">
    <vt:lpwstr/>
  </property>
</Properties>
</file>